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0C8-028F-465C-A98E-C409EF2E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6DA-BDF3-4D56-BC44-FAFC440A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DF8-1151-457D-9FFA-0DDC7F67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566-E3DD-4F39-8EE1-6105355B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83FF-9A74-4A6E-B8F3-AE7BD0B0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7F45-7944-41CB-8C76-F229A782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A065-38CF-4B97-8DE7-9D2CC215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A74C-1431-43AA-9DCB-ADDF2C38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3EB1-3EA9-4702-BE35-64D0F129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680B-B66F-4D80-8484-3E928C2E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010F-AD35-4416-8CE9-A056449B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57C-183E-4967-B569-4F2E6438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7261-EDD5-4E1D-BF89-F6B895E6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8B1E-EEAB-4175-A587-5A392191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23E6-F6F9-42DA-8E6D-D75A3963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396A-A25B-4D05-9071-042AB6D4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02AE-19B2-40CF-BE18-21267E36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A84-7F27-4E26-9776-C0B01E10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66B-E68B-40EA-BDBC-774C98D0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942-B5D6-4989-9F4A-3D26FF6E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0D5-D24E-4078-8E5C-26BDA90C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BDD-B067-4F33-B0C1-0974FAAB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A1B-9AB4-4EA4-8BE5-21AA0823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383-9FCD-4D07-8A0E-FFD585CB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B3DB-A36F-4090-821D-C8C7330648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3CE5-135A-47C8-AD06-CD0DB4FE19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Gill Sans Ultra Bold"/>
              </a:rPr>
              <a:t>Graphing Basic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81080" y="2100240"/>
            <a:ext cx="51055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ill Sans Ultra Bold"/>
              </a:rPr>
              <a:t>What do I put wher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X-axi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 independent variable; what you are chang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Y-axi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 dependent variable; what you are measu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ways label each axis with the variable and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UNIT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727520" y="2262240"/>
            <a:ext cx="39499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Gill Sans Ultra Bold"/>
              </a:rPr>
              <a:t>What scale do I choose to put on the axi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4928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ok at the lowest # and highest # that will need to be on the ax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ke sure the increments a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qual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quidistan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ame scale does not have to be on each axi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ou may make a “break” in the axis if necessa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51200" y="1600200"/>
            <a:ext cx="4318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09840" y="1066680"/>
            <a:ext cx="69483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Gill Sans Ultra Bold"/>
              </a:rPr>
              <a:t>CIRCLE YOUR DATA POI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t makes th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ints clear.  Th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on’t disappear 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rawn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4800600" cy="373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" y="4092480"/>
            <a:ext cx="3581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Best Fit L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81480" y="4276800"/>
            <a:ext cx="3581640" cy="2581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57800" y="1447920"/>
            <a:ext cx="3505320" cy="2771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33520" y="1828800"/>
            <a:ext cx="4098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olation vs. Extrapol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Interpol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estimating a value between two known points on a grap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Extrapol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 estimating a value outside the known values (extending the grap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4724280" cy="2293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19720" y="4191120"/>
            <a:ext cx="4724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5438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Gill Sans Ultra Bold"/>
              </a:rPr>
              <a:t>Graphing Checklist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 it have a TIT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 axes labeled with name of the variable and uni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 increments equal &amp; equidista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you use as much of the available graph paper as possib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your points circl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IV on the x-axis and the DV on the y-ax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3:54:00Z</dcterms:created>
  <dc:creator>jluckey</dc:creator>
  <dc:description/>
  <dc:language>en-US</dc:language>
  <cp:lastModifiedBy>jluckey</cp:lastModifiedBy>
  <dcterms:modified xsi:type="dcterms:W3CDTF">2010-08-31T20:28:29Z</dcterms:modified>
  <cp:revision>3</cp:revision>
  <dc:subject/>
  <dc:title>Graphing Basics</dc:title>
</cp:coreProperties>
</file>